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zapbig0g.wav" ContentType="audio/x-wav"/>
  <Override PartName="/ppt/media/bserie06.wav" ContentType="audio/x-wav"/>
  <Override PartName="/ppt/media/hzipup01.wav" ContentType="audio/x-wav"/>
  <Override PartName="/ppt/media/peopleooo.wav" ContentType="audio/x-wav"/>
  <Override PartName="/ppt/media/lzipup01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ED84-8210-491E-9D03-FCCF4FF6B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8D55-ED3B-40B2-96BC-05C8C79D9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6EC9-A8E4-46EE-999F-A9DB784A4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BC79-37B9-42D7-B5C5-5158F6CD2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17B2-6199-4B85-BF20-CC336DA7F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30ED-6BBE-4508-9157-1041DCADE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699C-D695-40D5-A520-F511B9317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A34E-6221-4C8F-964A-F1A54D901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02D0-9CE8-4E96-82E8-9FC23E0D8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17D6-A968-43C5-8B94-B5605D93F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5DDD-8E63-47E5-8307-67E12FC3B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847B-549A-4021-B47B-E9CF88A2F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C9D11-7137-45DB-9434-FBAC61BC73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zapbig0g.wav"/><Relationship Id="rId2" Type="http://schemas.openxmlformats.org/officeDocument/2006/relationships/audio" Target="../media/bserie06.wav"/><Relationship Id="rId3" Type="http://schemas.openxmlformats.org/officeDocument/2006/relationships/audio" Target="../media/bserie06.wav"/><Relationship Id="rId4" Type="http://schemas.openxmlformats.org/officeDocument/2006/relationships/audio" Target="../media/bserie06.wav"/><Relationship Id="rId5" Type="http://schemas.openxmlformats.org/officeDocument/2006/relationships/audio" Target="../media/bserie06.wav"/><Relationship Id="rId6" Type="http://schemas.openxmlformats.org/officeDocument/2006/relationships/audio" Target="../media/bserie06.wav"/><Relationship Id="rId7" Type="http://schemas.openxmlformats.org/officeDocument/2006/relationships/audio" Target="../media/hzipup01.wav"/><Relationship Id="rId8" Type="http://schemas.openxmlformats.org/officeDocument/2006/relationships/audio" Target="../media/zapbig0g.wav"/><Relationship Id="rId9" Type="http://schemas.openxmlformats.org/officeDocument/2006/relationships/audio" Target="../media/zapbig0g.wav"/><Relationship Id="rId10" Type="http://schemas.openxmlformats.org/officeDocument/2006/relationships/audio" Target="../media/zapbig0g.wav"/><Relationship Id="rId11" Type="http://schemas.openxmlformats.org/officeDocument/2006/relationships/audio" Target="../media/peopleooo.wav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bserie06.wav"/><Relationship Id="rId2" Type="http://schemas.openxmlformats.org/officeDocument/2006/relationships/audio" Target="../media/bserie06.wav"/><Relationship Id="rId3" Type="http://schemas.openxmlformats.org/officeDocument/2006/relationships/audio" Target="../media/bserie06.wav"/><Relationship Id="rId4" Type="http://schemas.openxmlformats.org/officeDocument/2006/relationships/audio" Target="../media/bserie06.wav"/><Relationship Id="rId5" Type="http://schemas.openxmlformats.org/officeDocument/2006/relationships/audio" Target="../media/bserie06.wav"/><Relationship Id="rId6" Type="http://schemas.openxmlformats.org/officeDocument/2006/relationships/audio" Target="../media/bserie06.wav"/><Relationship Id="rId7" Type="http://schemas.openxmlformats.org/officeDocument/2006/relationships/audio" Target="../media/bserie06.wav"/><Relationship Id="rId8" Type="http://schemas.openxmlformats.org/officeDocument/2006/relationships/audio" Target="../media/hzipup01.wav"/><Relationship Id="rId9" Type="http://schemas.openxmlformats.org/officeDocument/2006/relationships/audio" Target="../media/zapbig0g.wav"/><Relationship Id="rId10" Type="http://schemas.openxmlformats.org/officeDocument/2006/relationships/audio" Target="../media/zapbig0g.wav"/><Relationship Id="rId11" Type="http://schemas.openxmlformats.org/officeDocument/2006/relationships/audio" Target="../media/zapbig0g.wav"/><Relationship Id="rId12" Type="http://schemas.openxmlformats.org/officeDocument/2006/relationships/audio" Target="../media/peopleooo.wav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bserie06.wav"/><Relationship Id="rId2" Type="http://schemas.openxmlformats.org/officeDocument/2006/relationships/audio" Target="../media/bserie06.wav"/><Relationship Id="rId3" Type="http://schemas.openxmlformats.org/officeDocument/2006/relationships/audio" Target="../media/bserie06.wav"/><Relationship Id="rId4" Type="http://schemas.openxmlformats.org/officeDocument/2006/relationships/audio" Target="../media/bserie06.wav"/><Relationship Id="rId5" Type="http://schemas.openxmlformats.org/officeDocument/2006/relationships/audio" Target="../media/bserie06.wav"/><Relationship Id="rId6" Type="http://schemas.openxmlformats.org/officeDocument/2006/relationships/audio" Target="../media/bserie06.wav"/><Relationship Id="rId7" Type="http://schemas.openxmlformats.org/officeDocument/2006/relationships/audio" Target="../media/hzipup01.wav"/><Relationship Id="rId8" Type="http://schemas.openxmlformats.org/officeDocument/2006/relationships/audio" Target="../media/zapbig0g.wav"/><Relationship Id="rId9" Type="http://schemas.openxmlformats.org/officeDocument/2006/relationships/audio" Target="../media/zapbig0g.wav"/><Relationship Id="rId10" Type="http://schemas.openxmlformats.org/officeDocument/2006/relationships/audio" Target="../media/zapbig0g.wav"/><Relationship Id="rId11" Type="http://schemas.openxmlformats.org/officeDocument/2006/relationships/audio" Target="../media/peopleooo.wav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bserie06.wav"/><Relationship Id="rId2" Type="http://schemas.openxmlformats.org/officeDocument/2006/relationships/audio" Target="../media/bserie06.wav"/><Relationship Id="rId3" Type="http://schemas.openxmlformats.org/officeDocument/2006/relationships/audio" Target="../media/bserie06.wav"/><Relationship Id="rId4" Type="http://schemas.openxmlformats.org/officeDocument/2006/relationships/audio" Target="../media/bserie06.wav"/><Relationship Id="rId5" Type="http://schemas.openxmlformats.org/officeDocument/2006/relationships/audio" Target="../media/bserie06.wav"/><Relationship Id="rId6" Type="http://schemas.openxmlformats.org/officeDocument/2006/relationships/audio" Target="../media/bserie06.wav"/><Relationship Id="rId7" Type="http://schemas.openxmlformats.org/officeDocument/2006/relationships/audio" Target="../media/bserie06.wav"/><Relationship Id="rId8" Type="http://schemas.openxmlformats.org/officeDocument/2006/relationships/audio" Target="../media/hzipup01.wav"/><Relationship Id="rId9" Type="http://schemas.openxmlformats.org/officeDocument/2006/relationships/audio" Target="../media/zapbig0g.wav"/><Relationship Id="rId10" Type="http://schemas.openxmlformats.org/officeDocument/2006/relationships/audio" Target="../media/zapbig0g.wav"/><Relationship Id="rId11" Type="http://schemas.openxmlformats.org/officeDocument/2006/relationships/audio" Target="../media/zapbig0g.wav"/><Relationship Id="rId12" Type="http://schemas.openxmlformats.org/officeDocument/2006/relationships/audio" Target="../media/peopleooo.wav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lzipup01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 – 13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93680" y="6224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Find the Perimeter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09680" y="1511280"/>
            <a:ext cx="903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1. 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8000000">
            <a:off x="1366560" y="1874520"/>
            <a:ext cx="162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12 i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025720" y="1766880"/>
            <a:ext cx="3438360" cy="1352520"/>
          </a:xfrm>
          <a:custGeom>
            <a:avLst/>
            <a:gdLst/>
            <a:ahLst/>
            <a:rect l="l" t="t" r="r" b="b"/>
            <a:pathLst>
              <a:path w="2166" h="852">
                <a:moveTo>
                  <a:pt x="0" y="852"/>
                </a:moveTo>
                <a:lnTo>
                  <a:pt x="2166" y="300"/>
                </a:lnTo>
                <a:lnTo>
                  <a:pt x="471" y="0"/>
                </a:lnTo>
                <a:lnTo>
                  <a:pt x="0" y="852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600000">
            <a:off x="3300120" y="1328760"/>
            <a:ext cx="16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17 i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20700000">
            <a:off x="2873880" y="2592360"/>
            <a:ext cx="16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19 i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48520" y="2414520"/>
            <a:ext cx="117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12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900760" y="4564080"/>
            <a:ext cx="1292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265800" y="3070080"/>
            <a:ext cx="1757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17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629320" y="3703680"/>
            <a:ext cx="768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Symbol"/>
                <a:ea typeface="Symbol"/>
              </a:rPr>
              <a:t>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249960" y="3716280"/>
            <a:ext cx="1757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19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591240" y="452448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8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207120" y="452592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251400" y="180504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852560" y="4471920"/>
            <a:ext cx="1793880" cy="916920"/>
          </a:xfrm>
          <a:prstGeom prst="rect">
            <a:avLst/>
          </a:prstGeom>
          <a:noFill/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48 in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500"/>
                            </p:stCondLst>
                            <p:childTnLst>
                              <p:par>
                                <p:cTn id="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peopleoo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 – 13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3680" y="6224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Find the Perimeter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09680" y="1511280"/>
            <a:ext cx="903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2. 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19500000">
            <a:off x="1060920" y="1633320"/>
            <a:ext cx="16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25 i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92640" y="1436760"/>
            <a:ext cx="16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19 i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rot="20700000">
            <a:off x="1868760" y="3582720"/>
            <a:ext cx="162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23 i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673680" y="1851120"/>
            <a:ext cx="117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25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356520" y="5524560"/>
            <a:ext cx="1292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721560" y="4030560"/>
            <a:ext cx="1757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2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84720" y="4664160"/>
            <a:ext cx="768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Symbol"/>
                <a:ea typeface="Symbol"/>
              </a:rPr>
              <a:t>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705720" y="4676760"/>
            <a:ext cx="1757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2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047000" y="548496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313320" y="5486400"/>
            <a:ext cx="887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1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707160" y="119556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490840" y="5172120"/>
            <a:ext cx="2176560" cy="916920"/>
          </a:xfrm>
          <a:prstGeom prst="rect">
            <a:avLst/>
          </a:prstGeom>
          <a:noFill/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103 in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006560" y="1463760"/>
            <a:ext cx="2773440" cy="2392200"/>
          </a:xfrm>
          <a:custGeom>
            <a:avLst/>
            <a:gdLst/>
            <a:ahLst/>
            <a:rect l="l" t="t" r="r" b="b"/>
            <a:pathLst>
              <a:path w="1747" h="1507">
                <a:moveTo>
                  <a:pt x="0" y="931"/>
                </a:moveTo>
                <a:lnTo>
                  <a:pt x="1305" y="0"/>
                </a:lnTo>
                <a:lnTo>
                  <a:pt x="1747" y="614"/>
                </a:lnTo>
                <a:lnTo>
                  <a:pt x="1516" y="1238"/>
                </a:lnTo>
                <a:lnTo>
                  <a:pt x="460" y="1507"/>
                </a:lnTo>
                <a:lnTo>
                  <a:pt x="0" y="931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560760" y="2671920"/>
            <a:ext cx="16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16 i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08080" y="3205080"/>
            <a:ext cx="16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20 i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737400" y="3238560"/>
            <a:ext cx="1757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16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691320" y="2492280"/>
            <a:ext cx="1757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19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5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500"/>
                            </p:stCondLst>
                            <p:childTnLst>
                              <p:par>
                                <p:cTn id="1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2500"/>
                            </p:stCondLst>
                            <p:childTnLst>
                              <p:par>
                                <p:cTn id="1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3000"/>
                            </p:stCondLst>
                            <p:childTnLst>
                              <p:par>
                                <p:cTn id="1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peopleoo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035000" y="1920960"/>
            <a:ext cx="3719520" cy="1600200"/>
          </a:xfrm>
          <a:custGeom>
            <a:avLst/>
            <a:gdLst/>
            <a:ahLst/>
            <a:rect l="l" t="t" r="r" b="b"/>
            <a:pathLst>
              <a:path w="2343" h="1008">
                <a:moveTo>
                  <a:pt x="451" y="0"/>
                </a:moveTo>
                <a:lnTo>
                  <a:pt x="2343" y="374"/>
                </a:lnTo>
                <a:lnTo>
                  <a:pt x="2189" y="1008"/>
                </a:lnTo>
                <a:lnTo>
                  <a:pt x="0" y="892"/>
                </a:lnTo>
                <a:lnTo>
                  <a:pt x="451" y="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 – 13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3680" y="6224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Find the Perimeter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09680" y="1511280"/>
            <a:ext cx="903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3. 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7760000">
            <a:off x="436320" y="2028600"/>
            <a:ext cx="162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23 f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rot="720000">
            <a:off x="2644560" y="1682280"/>
            <a:ext cx="16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31 f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581360" y="2760840"/>
            <a:ext cx="162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18 f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11920" y="2506680"/>
            <a:ext cx="117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23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356520" y="5524560"/>
            <a:ext cx="1292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21560" y="4030560"/>
            <a:ext cx="1757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18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84720" y="4664160"/>
            <a:ext cx="768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Symbol"/>
                <a:ea typeface="Symbol"/>
              </a:rPr>
              <a:t>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705720" y="4676760"/>
            <a:ext cx="1757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36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047000" y="548496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8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313320" y="5486400"/>
            <a:ext cx="887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1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45400" y="185112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490840" y="5172120"/>
            <a:ext cx="2176560" cy="916920"/>
          </a:xfrm>
          <a:prstGeom prst="rect">
            <a:avLst/>
          </a:prstGeom>
          <a:noFill/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108 ft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rot="120000">
            <a:off x="1931760" y="3342960"/>
            <a:ext cx="16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36 f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737400" y="3238560"/>
            <a:ext cx="1757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3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9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500"/>
                            </p:stCondLst>
                            <p:childTnLst>
                              <p:par>
                                <p:cTn id="1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2000"/>
                            </p:stCondLst>
                            <p:childTnLst>
                              <p:par>
                                <p:cTn id="2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500"/>
                            </p:stCondLst>
                            <p:childTnLst>
                              <p:par>
                                <p:cTn id="2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peopleoo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 – 13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93680" y="6224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Find the Perimeter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09680" y="1511280"/>
            <a:ext cx="903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4. 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500000">
            <a:off x="389160" y="1738080"/>
            <a:ext cx="162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17 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28880" y="1041480"/>
            <a:ext cx="16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23 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713040" y="1892160"/>
            <a:ext cx="162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15 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490840" y="5172120"/>
            <a:ext cx="1735200" cy="916920"/>
          </a:xfrm>
          <a:prstGeom prst="rect">
            <a:avLst/>
          </a:prstGeom>
          <a:noFill/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82 m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720000">
            <a:off x="1352160" y="3022200"/>
            <a:ext cx="16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13 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477800" y="1660680"/>
            <a:ext cx="2210040" cy="1585800"/>
          </a:xfrm>
          <a:custGeom>
            <a:avLst/>
            <a:gdLst/>
            <a:ahLst/>
            <a:rect l="l" t="t" r="r" b="b"/>
            <a:pathLst>
              <a:path w="1392" h="999">
                <a:moveTo>
                  <a:pt x="39" y="0"/>
                </a:moveTo>
                <a:lnTo>
                  <a:pt x="1392" y="0"/>
                </a:lnTo>
                <a:lnTo>
                  <a:pt x="1392" y="730"/>
                </a:lnTo>
                <a:lnTo>
                  <a:pt x="768" y="999"/>
                </a:lnTo>
                <a:lnTo>
                  <a:pt x="0" y="826"/>
                </a:lnTo>
                <a:lnTo>
                  <a:pt x="39" y="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19800000">
            <a:off x="2572200" y="2793600"/>
            <a:ext cx="16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14 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673680" y="1851120"/>
            <a:ext cx="117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23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356520" y="5524560"/>
            <a:ext cx="1292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721560" y="4030560"/>
            <a:ext cx="1757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1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84720" y="4664160"/>
            <a:ext cx="768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Symbol"/>
                <a:ea typeface="Symbol"/>
              </a:rPr>
              <a:t>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705720" y="4676760"/>
            <a:ext cx="1757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17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47000" y="548496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313320" y="5500800"/>
            <a:ext cx="887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  </a:t>
            </a: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8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707160" y="119556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737400" y="3238560"/>
            <a:ext cx="1757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14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691320" y="2492280"/>
            <a:ext cx="1757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1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6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000"/>
                            </p:stCondLst>
                            <p:childTnLst>
                              <p:par>
                                <p:cTn id="2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500"/>
                            </p:stCondLst>
                            <p:childTnLst>
                              <p:par>
                                <p:cTn id="2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2000"/>
                            </p:stCondLst>
                            <p:childTnLst>
                              <p:par>
                                <p:cTn id="2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2500"/>
                            </p:stCondLst>
                            <p:childTnLst>
                              <p:par>
                                <p:cTn id="2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3000"/>
                            </p:stCondLst>
                            <p:childTnLst>
                              <p:par>
                                <p:cTn id="2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peopleoo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1538280"/>
            <a:ext cx="914400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Page 29, 1 – 13 #1-9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orksheet #7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amon.skelton</cp:lastModifiedBy>
  <dcterms:modified xsi:type="dcterms:W3CDTF">2004-08-13T19:50:02Z</dcterms:modified>
  <cp:revision>54</cp:revision>
  <dc:subject/>
  <dc:title>Slide 1</dc:title>
</cp:coreProperties>
</file>